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FD9-3D70-4B5C-B74E-58C8B79A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7A9-683D-4E24-9205-BEF145C9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0C9-1C1D-49F6-8B90-A16DA13B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1BF-DFD8-47BC-B04C-F422D984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92F-4C6C-44B7-B47D-CC851926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F8A0-D1BF-4E8E-99C1-CF3C8999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4DF0-DC18-4528-9703-8F9B9F86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3AF2-EA35-421B-A145-61762347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C7DD-1FC1-46FA-82CD-429E6356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BB59-DFAA-400A-BDEB-67668A0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9081-3F92-4F59-8F8E-8DC1B21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88C-515E-41C9-A046-DB0CF04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2FF6-FDA1-4843-B778-2254516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093E-8212-4E64-8613-CFBB8F2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4162-9D17-4591-AF4A-815CF968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73BC-9E28-4424-B4D0-53F074B2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E5DF-B08F-48D0-84D1-64CF0B99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EC3-BBEA-4F31-A789-C19446ED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E52-FB53-4A8C-860A-E7C3C6DF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821-B87D-4051-A34A-976A3AE9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AE3-F3C6-4EBC-9507-43310268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B03-21B2-490D-BCC5-7CB19AAC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78F-655A-4D55-BF3B-E331B38D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C98-0800-4E96-9F6E-7A8F20E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8710-7DCB-49FD-95B0-A7BB375BA612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4263-233F-4574-BAFC-B72D5BB81CA1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2971800"/>
            <a:ext cx="8381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lim</a:t>
            </a:r>
            <a:r>
              <a:rPr b="0" lang="cs-CZ" sz="3600" spc="-1" strike="noStrike" baseline="-25000">
                <a:solidFill>
                  <a:srgbClr val="ffffcc"/>
                </a:solidFill>
                <a:latin typeface="Arial"/>
              </a:rPr>
              <a:t>n--&gt;</a:t>
            </a:r>
            <a:r>
              <a:rPr b="0" lang="cs-CZ" sz="1600" spc="-1" strike="noStrike" baseline="-25000">
                <a:solidFill>
                  <a:srgbClr val="ffffcc"/>
                </a:solidFill>
                <a:latin typeface="Arial"/>
              </a:rPr>
              <a:t>+oo</a:t>
            </a:r>
            <a:r>
              <a:rPr b="0" lang="cs-CZ" sz="36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ln{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[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(n+1)</a:t>
            </a:r>
            <a:r>
              <a:rPr b="0" lang="cs-CZ" sz="3600" spc="-1" strike="noStrike" baseline="30000">
                <a:solidFill>
                  <a:srgbClr val="ffffcc"/>
                </a:solidFill>
                <a:latin typeface="Arial"/>
              </a:rPr>
              <a:t>n+1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*n!]/[n</a:t>
            </a:r>
            <a:r>
              <a:rPr b="0" lang="cs-CZ" sz="36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*(n+1)!]}=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75248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lim</a:t>
            </a:r>
            <a:r>
              <a:rPr b="0" lang="cs-CZ" sz="3600" spc="-1" strike="noStrike" baseline="-25000">
                <a:solidFill>
                  <a:srgbClr val="ffffcc"/>
                </a:solidFill>
                <a:latin typeface="Arial"/>
              </a:rPr>
              <a:t>n--&gt;</a:t>
            </a:r>
            <a:r>
              <a:rPr b="0" lang="cs-CZ" sz="1600" spc="-1" strike="noStrike" baseline="-25000">
                <a:solidFill>
                  <a:srgbClr val="ffffcc"/>
                </a:solidFill>
                <a:latin typeface="Arial"/>
              </a:rPr>
              <a:t>+oo</a:t>
            </a:r>
            <a:r>
              <a:rPr b="0" lang="cs-CZ" sz="36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{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[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(n+1)</a:t>
            </a:r>
            <a:r>
              <a:rPr b="0" lang="cs-CZ" sz="3600" spc="-1" strike="noStrike" baseline="30000">
                <a:solidFill>
                  <a:srgbClr val="ffffcc"/>
                </a:solidFill>
                <a:latin typeface="Arial"/>
              </a:rPr>
              <a:t>n+1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*n!]/[n</a:t>
            </a:r>
            <a:r>
              <a:rPr b="0" lang="cs-CZ" sz="36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*(n+1)!]}=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Z čehož plyne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733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A tedy: Pro všechna </a:t>
            </a:r>
            <a:r>
              <a:rPr b="1" lang="cs-CZ" sz="18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gt;1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plat</a:t>
            </a: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í, že </a:t>
            </a:r>
            <a:r>
              <a:rPr b="1" lang="cs-CZ" sz="18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gt;n</a:t>
            </a:r>
            <a:r>
              <a:rPr b="1" lang="cs-CZ" sz="1800" spc="-1" strike="noStrike">
                <a:solidFill>
                  <a:srgbClr val="ffffcc"/>
                </a:solidFill>
                <a:latin typeface="Times New Roman"/>
              </a:rPr>
              <a:t>!,</a:t>
            </a: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 přičemž tento rozdíl se při zvětšování </a:t>
            </a:r>
            <a:r>
              <a:rPr b="1" lang="cs-CZ" sz="18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 bude neustále zrychlovat...a tedy </a:t>
            </a:r>
            <a:r>
              <a:rPr b="1" lang="cs-CZ" sz="1800" spc="-1" strike="noStrike">
                <a:solidFill>
                  <a:srgbClr val="ffffcc"/>
                </a:solidFill>
                <a:latin typeface="Times New Roman"/>
              </a:rPr>
              <a:t>n!</a:t>
            </a: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 nemůže ani v </a:t>
            </a:r>
            <a:r>
              <a:rPr b="0" lang="cs-CZ" sz="1300" spc="-1" strike="noStrike">
                <a:solidFill>
                  <a:srgbClr val="ffffcc"/>
                </a:solidFill>
                <a:latin typeface="Times New Roman"/>
              </a:rPr>
              <a:t>+oo</a:t>
            </a: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 dostihnout </a:t>
            </a:r>
            <a:r>
              <a:rPr b="1" lang="cs-CZ" sz="18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. Čili věta našeho programátora byla stěží pravdivá. Ale ještě se nad tím musím zamyslet z různých úhlů pohledu. Třeba jakési Stirlingovy řetězce, na něž mne Kučikuč odkazoval, prý praví něco jiného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90720"/>
            <a:ext cx="7391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Kučikuč pravil: </a:t>
            </a:r>
            <a:r>
              <a:rPr b="1" lang="cs-CZ" sz="1800" spc="-1" strike="noStrike">
                <a:solidFill>
                  <a:srgbClr val="ffffcc"/>
                </a:solidFill>
                <a:latin typeface="Times New Roman"/>
              </a:rPr>
              <a:t>n!</a:t>
            </a: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 se pro velmi vysoká </a:t>
            </a:r>
            <a:r>
              <a:rPr b="1" lang="cs-CZ" sz="18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 limitně blíží </a:t>
            </a:r>
            <a:r>
              <a:rPr b="1" lang="cs-CZ" sz="18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A tak jsem začal bádat za pomoci Excelu. Došel jsem k zajímavým závěrům: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Times New Roman"/>
              </a:rPr>
              <a:t>Jak jsem polemizoval s profesorem program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1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ffman</cp:lastModifiedBy>
  <dcterms:modified xsi:type="dcterms:W3CDTF">2005-01-21T17:37:36Z</dcterms:modified>
  <cp:revision>9</cp:revision>
  <dc:subject/>
  <dc:title>Bez nadpisu</dc:title>
</cp:coreProperties>
</file>